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D2E-4AA2-46FF-8E39-B3527748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4FD-6664-45D5-93C5-C58BE1DA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4EF1C-94CC-427D-9D2A-D983337C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15C4E-D332-468C-BFB0-E75FAB93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4D215-3E45-4F20-8BBE-EAF2FB40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D101E-0833-4E0C-80D0-DB5E464F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A9A3D-C5EF-4C91-8665-3EA5A730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8C4AB-1726-46C0-B965-767CFA6E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A3B64-DC04-4C77-A067-951CC8CB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77EE6-2C60-4877-9BC1-EEB33DA4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E54FA-F8F8-459A-B904-8895FA35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15AFB-CF78-4CB7-903F-21DBCD2D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DB4-1414-4C8E-8848-D1CB2032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F2653-9DE8-4573-8296-FDBFFD20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44DA0-6D9A-4683-A213-D7D1E690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60B32-25B3-4A75-A6D8-24170418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77341-EC36-4AE2-AEA8-9F683430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594A3-30FF-48B1-A880-6752A5BC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2FC12-51E3-4DD5-9ABC-59A174FC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0BD6A-D6D4-4F82-A5F1-9F9273AB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7D2FE-78BA-4CC0-95FC-8EEAC1F0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100D2-1D95-4618-9B01-BCE783FE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88428-DA36-4D25-B8B0-7E126E46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747B-ACF5-4AEE-B9D1-0A26D3B5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3D540-C725-40D8-982A-FD80B285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43A3A-94EA-49E3-BF12-C2EBB85A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AC604-47D9-437C-BBFA-628E9513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9FD98-9056-443A-8411-84D88B30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57550-D50D-4D0B-8833-DFC005D9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DFEE2-FFC2-4C42-8CDF-463F86F1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2F398-BB24-46B2-B58A-51154300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2AE59-F091-4727-B9B6-B51C0D22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96A34-7630-470D-BCE0-F0C78ABB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95734-D6F7-42FD-8A7E-50DC72CB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1719-77E1-4366-9AED-09F17753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7B1D0-8BB9-4A4C-99E7-330E46DA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070BC-0889-4496-9890-CBDB3643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63F93-7214-4799-99B1-DB691149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D526C-9546-4915-8E0C-45C37773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C2C99-4302-48B6-A7D2-6D05DDEB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3B131-E7FC-42BE-8514-F04A1A60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B0474-D957-4A43-921A-D9FD69D4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1C9DC-C2A7-4FDC-A132-C7E9AED7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523E4-14F6-4D96-B696-FDB184C4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AEFEB-6A04-4087-A497-63C0802D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2CA8-F459-4DC7-BADF-E0EC5AD3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4AA78-6F90-4C5C-BC98-6DEFDE65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B2FBD-883F-4A7B-8549-8FAF2BE2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04B43-F8EF-4D17-84C8-C70BDD62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DA098-22D8-46DC-9CF3-C49C0C05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9F33B-EF5E-448F-9127-B58FCC2D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FEB8D-2708-49B2-9D54-9E7E20E9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1BE0C0-8EBC-4C3A-9B59-51363E81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8B63C1-0676-4AD2-85E9-E91D9502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692BF-F758-462F-95C8-1AE1645B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77D1E-B244-45B2-8C2E-74964BFF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5E50-E24F-48C3-967D-E14CEF2E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64FCE-50CF-4B1A-ABE6-196C1BB6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C7096F-460A-4C20-80D7-DC8BCE10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4557D5-1626-484A-83F6-976A4C7E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C1353-CAF5-4A02-B2A9-182272AD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3A8EE-4BE1-4B87-9974-B293DBA2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1A70D-2BD4-47E5-9D32-2C621046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125E8B-564C-4D05-BCE5-42687E03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6B354-1D1C-4138-96FD-BD957C98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21CA5-4C38-4AB5-8658-57BD466D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D1F3E-520A-491E-878F-3AECAA90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606B-390B-41FB-AF3A-8A4762E1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B4241C-B354-480C-B5D7-0328F833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5624A3-2E18-4688-BFB0-2D23BA5D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F67056-F66B-4635-9FA5-04DE64C8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B732E6-F930-4E74-AEA9-3F66730A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B93022-30CD-4376-81F8-0D9200DD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767777-5C0A-4BA5-9CC2-F373553C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0B6878-054F-4529-AD19-B3E2A4B9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0B645F-677D-4526-BC7D-C46E613E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AE231D-A25D-4A15-B371-2D4D31D7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EAB1E9-6DFC-46BC-9793-85B8C97C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EC38-505D-466D-A3F0-E04BF328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BC667-281E-4C9F-878A-94AC97CE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A10F59-0D6F-4408-AC1B-D28CCB09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A428C3-6923-4077-B726-3C53515C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BE9916-C2B0-469C-B48B-7B7232F0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54B559-411E-482B-8903-7D427E50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C6980-8A2A-4C35-99F6-427A37D8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3074ED-8EDB-489A-A060-1A4985BB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97387A-F472-4055-8F32-51635261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BDE06F-AD4C-4482-B2D9-1C50BE0A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EA21CE-BD75-483B-BFDA-6ED90AA6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1949-4527-4796-A306-AEAFF3F8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D0DC3F-A3E5-42FA-9400-DADACA60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53801C-D598-4423-99F3-C1CB2A35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9C1D4C-1CE2-4F86-AE6B-C84AA424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4BD8CE-0810-48BF-B822-CE6ABCF9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44F78-BA93-4C84-A48E-DFF86E06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3EC849-6DFA-43E0-A39C-4BD73DBF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2DF73A-57A4-4E5A-9CC3-052521C5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B325D1-8C47-4407-95F2-E3EF03E2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4F2EF7-0245-4C24-BA54-7D24DFB5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61AFD7-D625-4FCC-8E87-AFACF8A4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5C5F-1D9B-4477-A363-3981C202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717040-D080-4274-BC36-D15E192D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687153-EC5C-4DE6-97D6-9058A323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AC38C9-0F1E-4F08-A634-2921BA35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BB1929-6C1C-4D3D-B619-0FB8AD06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AC30E9-806D-47FF-9ED8-916D7621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5F5DA8-33AD-4E60-B0CF-2BEDA43D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81F424-4D5F-47C4-A07B-56E2A93C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A46B05-9099-4081-84C4-2191D899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2D72BF-5203-410A-846F-F7C9B361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797EC7-AACD-4F34-9A67-D7A32A82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6D20-D79B-45A1-8780-47F16317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3A04-4894-4FD8-8E95-0024C0FE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15A1B-2206-4C3C-ACA7-DCEF3E1F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D5BA23-CC7C-4845-A6B7-FDD2169F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5E14BB-BE55-452A-B166-A270AD74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BF3AB4-2445-4296-90A9-F876D2F2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A2715-309B-4F7B-97C4-18B5DE5C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834F23-3433-4190-A28C-293CB956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6FF586-ABAE-42BF-93CD-CF7BEAB2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4410CC-ADAF-4070-9FD1-827B6E84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28576D-5AA1-4EA6-A5AB-48BFB86D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8D2E07-64EC-4798-A15E-32F3A735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A846-8F60-4A08-AB5F-B307E7F6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C03B06-3DBC-4383-8281-6F9AC6B1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F2D2C9-775F-4274-80AA-FE5B998F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608C54-AEB9-478D-8017-C1980CA8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7DA852-0046-44A0-9D92-A6EAC1DF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24E3B0-3E41-4865-BE36-A8F71483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38C671-A40D-468B-A838-4195D7D7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3BBE9D-2898-4FBC-BF03-7C5EFBE9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C0BD4F-803B-4D93-B574-EA637348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79053E-C6FA-4604-A431-8E787D06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A5D446-9FE0-4C80-87DB-EF942413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C33C-291F-407E-81A6-749A0981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C95CF0-7D22-4642-9253-5CAA4D9C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16ECC3-C9F8-4E95-B7AD-610EC9F1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866479-737E-4971-AD6A-D44BC594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F68BFB-371C-41BB-9EFA-E41C6E7B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DFE7C8-30A5-45E7-AABF-3AD79989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89057D-3C0C-48EB-AA36-7A4D6DAE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489367-FBB8-49B5-AE3A-ADF33543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10965E-0F78-4C9B-95A4-63C85700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DBE32D-D70B-43D7-B49F-425D21C7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813551-2B5E-4CFE-BAF2-7AE33222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25AB-5EB4-4BAB-9BAC-F9FD6AFC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4DE52F-1D30-4D51-94DE-AADB8320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EE82DE-356E-4E53-A9DA-3208485B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0CF7F5-51C2-4B6A-A437-9E66EC7A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983539-B9A7-4EE2-8F95-0F0E59D5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73E5B7-673F-4D4B-9E53-4D6C4B94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4A7DAC-BAE9-40FD-AA9F-57DAF518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2506C5-DB28-4487-BEBD-4C7891BF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355714-6171-4365-ABE4-711D22B7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36FBF2-482E-407C-9D7D-2D5E42BD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D532AB-CC82-4A21-B30E-100601B5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966D-65F7-4A09-9BB5-F7BB810D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7E8DA6-19A1-4946-965C-4ACA7995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71E28E-9473-4124-BE1C-75F4A3EB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11A481-BB09-4D3D-BB92-874F16BA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4CDB47-2878-4F23-83FB-52A5ADA9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351458-07C6-4EAA-95FE-3264C462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1D0DB3-C42C-4B41-9B64-AF333F7B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89D539-249A-43F7-8A63-DED443DF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01CD33-5E29-4269-9480-379A62C0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0B9504-49D0-47EE-826D-B0DD89CF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20EC88-FE13-4A46-B121-2C0A066E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69431-60E2-4EAA-A98A-04564389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F34C0D-0E6A-486A-B0A4-0C51AE18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E148BE-198F-4562-8BC4-703E006C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3DE6C1-C26B-41A1-A880-74A4636B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69ABF-0DF3-4626-B007-C4356952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E8A25-A965-4412-9B6E-1C46681D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2D8AF-8586-48FB-A45B-62117FE2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03781-80AE-4D11-84D5-1D76B1FD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4C6-77FE-48B2-ACB4-BEFAE06F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69EF5-9CEA-4706-814E-DAFF9A44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908E9-AE95-4F9B-991B-BC02909C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D25D8-1CDC-4867-A88E-57FEA1EB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94FC1-329C-44F2-A962-D77A1736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DFAEE-6472-4656-BEE3-63169FDD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33EB4-5773-47BE-BD6B-FBA2F695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6B80F-0D3C-4800-A44A-70575DDD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7D889-56A7-4CAD-A191-829C93C4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8A073-BA49-4E16-85A8-EFDB7EAC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AC3B8-F245-45C5-BC29-F4869452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6F44-FADE-47CA-BDAB-E0A6B05D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508C2-A742-42AB-BB53-649DD1E8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44B0B-841F-4202-8CFF-65FF7084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1A530-F713-41F5-81AE-9A1225A1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192CC-BD2E-4A55-9BE8-E7B218F3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2D4ED-7E13-4C8E-9A49-0D00B2E3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25A4A-4E09-42EC-9D29-463AFF7D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49DE5-2F7F-4819-90A3-30869335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3F3F8-309A-4943-90A9-26D879EB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51777-AAAD-43D3-ADD8-CB966A34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E5F93-0BBC-4CA0-B8EC-F0F99DD3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E72A-AD46-4E6E-B26B-FCCC4736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11B03-912C-4460-9955-4F1D5C06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454A5-C385-48E2-9692-BA17BEAB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D27F3-A847-4C70-BC25-CB6CDF25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79E7F-F651-46DC-845B-7E2B3CDF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081FA-489E-4181-B2F1-53091C9A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95BF3-FA77-4A4A-A4D7-E1C3389C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A8C48-11C4-48C7-9A41-F78011B9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12FA5-0443-42B1-B696-C6DF9036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C347D-664C-44FF-AF58-1EDB07AF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B82D1-D7E2-4569-A44D-107141E0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60A-FD68-4C51-B9D6-BFC4B943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09261-7FF0-438A-8CC1-DC83D649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D799C-2A7F-4960-9C59-F1253986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58209-F055-479A-87B8-748DA17F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CF44A-BDB9-41A0-AEB1-84E9FA95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FD010-E2DB-4FF9-B39D-71200B67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14A8E-34FF-425A-89B6-11ABB64C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A4222-697E-4C31-824C-BE03CEC0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9007A-9AA2-4F6A-95EB-0C6125E3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66F6B-A4F4-4559-91B4-4BE5675E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F0476-0857-4F5A-BED1-E30E6D79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C2A-B6EE-4546-85B7-5B6C86DD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C51D5-A2B4-4914-8E5A-9829B395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25F98-F789-4B9C-BAB3-22559172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FEE8D-9DE5-4C64-B0BA-FDC29258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D9AFA-6155-4EB6-A8F8-8F7002C4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6C572-0B82-449F-B052-3496A3CC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93CAC-87CB-446E-AA2E-1161519C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04B8B-DE62-4821-BBF6-8445D9C2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05ABA-0CD5-4942-B7A7-904695C2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93D51-1384-4262-A5F1-32AFD936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4742C-9FD6-4AF7-8D6D-69E09DEF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22A-F723-440B-9BFD-A43D9573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5A9E9-99DC-4271-8732-C01ADDCD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14C83-CEE4-4C71-BAE4-878B2B42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BDD76-B4C8-449A-9A4D-94CE64AC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B218A-3D17-45CF-8179-C54EE6DB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B83AF-9CAC-43CD-804C-E0381D04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BEEE9-993C-49BF-8759-CDE792AE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24BD0-5A52-4227-AEB4-3D2C09D8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32E87-184B-43C7-BDA0-DE8B19ED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F2946-7807-4B17-9B9B-4910918C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1090D-F4AA-4FD5-85E9-1A81EB40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531-DD38-49B1-AFF4-8EBB5D4D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0B1B0-D81E-481D-9502-77B24B8B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4F9FA-DF11-4CEF-8CFD-D9076355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C76F6-85D4-4F2D-8348-7B30794A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31BEA-0372-4844-A3E7-A5DF3AE0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63DF3-337C-4233-B755-122FB9B2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04077-C42F-460F-B561-0242D5E6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022CE-1A6E-47CA-8E75-0B5FCA13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3FF1D-FCF6-4DAF-86A0-1EB6F1C2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367AF-C1F1-41BD-9A08-F1DA3591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B0B77-3D2B-4AA4-B0BE-E30E290D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54FC-3018-4CEB-8600-DA15695CC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998E-12D2-4D39-9189-B7B2F322AC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1239-EE62-4B35-B108-3A97F35F16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8866-9588-43F4-A8EA-445080594F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3D38-388F-4AFD-8292-EAB2CAA32E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FB92-6D35-45D8-A52B-38F74033DB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310C-9A7B-4055-BB1F-E139002867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48F3-8FB0-4712-87E8-700994A6B0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CB74-A62E-4BD2-A2EF-42C29F41DE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CD5C-D9ED-4BEE-A5D5-9BBA46E7C7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8ADC-1785-4022-B405-3BAB41DCDE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203E-1281-4294-87C6-EA308DA388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CEFD-05CF-41D5-BF90-DC4B784B81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3A93-334C-4C23-8204-C5D9DA108A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F8CF-7A15-4F83-A66D-8597125D1E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F9D7-B269-4215-83A9-92A061DE6A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8F47-9881-4444-AD95-7122001927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4D9E-B7B4-4008-B79D-5451BB69F6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7862-F9E4-4D17-A011-B13E1443B9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C22F-FCBB-4026-B067-21672D1B74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A16B-95A7-4132-A0B9-F029FF3CD6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A168-EDCA-4051-8DC8-CAF3581A6D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F3FE-7C53-454C-933A-8FD10C40F4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2445-4B3A-4CC6-BB16-3D4A58B9CE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4C81-B779-4EFF-B1C1-56610B7CE5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FE3C-CFA1-4A88-906F-541AD39E18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0F24-1D91-4AE4-B77E-609445CB19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4527-09E5-4DDE-A27C-6F61AACCE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08D3-9940-46E7-8F5C-6CFBD53410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2D28-D878-4AE7-8CE0-9294BCC93A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EB88-0764-4D5B-A55C-75D7F9DE75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C2FA-EC12-4287-B2A8-DD3164201A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84F0-0C59-4612-B018-A803A93A4A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3A6E-3135-4DCA-936E-F7C4E5D398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03CE-1B2A-4222-930F-C67902F6D9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D0C6-3234-4F45-890F-4A024C12D5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C2D1-9B50-4F25-A920-217ADEFBB2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BFD5-B69F-4E83-951D-DC0A9A83E6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8426-4833-4C11-A509-0531150451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5410-2FD3-4BC9-AFA1-46502B719A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195640" y="2928960"/>
            <a:ext cx="4752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81080" y="1012680"/>
            <a:ext cx="8294760" cy="219096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65160" y="3575160"/>
            <a:ext cx="9012240" cy="18288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900000" y="1398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900000" y="1773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900000" y="2133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900000" y="2867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6443640" y="50562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1042920" y="50706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4600440" y="5027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8172360" y="5041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3"/>
          <a:stretch/>
        </p:blipFill>
        <p:spPr>
          <a:xfrm>
            <a:off x="2843280" y="50562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190440" y="1738440"/>
            <a:ext cx="8763120" cy="3381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942840" y="2147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5407200" y="2147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971640" y="36162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5364000" y="364500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2" descr=""/>
          <p:cNvPicPr/>
          <p:nvPr/>
        </p:nvPicPr>
        <p:blipFill>
          <a:blip r:embed="rId1"/>
          <a:stretch/>
        </p:blipFill>
        <p:spPr>
          <a:xfrm>
            <a:off x="1157400" y="2133720"/>
            <a:ext cx="6829200" cy="25905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1835280" y="2516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1835280" y="2867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1849320" y="32418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1835280" y="36162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6"/>
          <a:stretch/>
        </p:blipFill>
        <p:spPr>
          <a:xfrm>
            <a:off x="1849320" y="4005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7"/>
          <a:stretch/>
        </p:blipFill>
        <p:spPr>
          <a:xfrm>
            <a:off x="1835280" y="4365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1:56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